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1B04-77F4-46C0-8043-3DEDF709CC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413E-2324-40D1-B62E-AC45DE6DFD0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802-892D-4776-982A-B547ECC3A0E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6C155-4C22-4231-9E5B-0B9F9183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00C31-1C5D-43A9-ABBD-11230B60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4EF32-A371-4646-AE8B-2BDD1C98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74410-8520-4B47-AFED-1BC77239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FB5E5-0539-49B7-803F-05312F66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8F23D-91AA-4D12-BF57-704575F9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D0D7A-A24C-42AA-92F1-3344A22F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AF428-FB94-4E24-9DCD-CB12B3DF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37114-F4DF-4E77-B7D8-B1FE333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6123B-4F7D-4835-82F9-297712BC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71C4B-9B3D-4DA6-9FB1-117920BA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E9C9C-9D74-4B62-A6D0-E0D519D6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7526-9167-4790-9910-7514FB5DAFC3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592D-4EB3-402D-9EE9-91033EBAC7BF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E634-A978-489D-A47B-59E039071B0A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630B-2523-4713-9FAE-D667F0F43250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168A-1E02-4DB0-AC40-640CD1659DED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sp>
          <p:nvSpPr>
            <p:cNvPr id="375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6" name="그룹 15"/>
            <p:cNvGrpSpPr/>
            <p:nvPr/>
          </p:nvGrpSpPr>
          <p:grpSpPr>
            <a:xfrm>
              <a:off x="142920" y="1103400"/>
              <a:ext cx="8820360" cy="3405960"/>
              <a:chOff x="142920" y="1103400"/>
              <a:chExt cx="8820360" cy="3405960"/>
            </a:xfrm>
          </p:grpSpPr>
          <p:sp>
            <p:nvSpPr>
              <p:cNvPr id="377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AutoShape 2"/>
              <p:cNvSpPr/>
              <p:nvPr/>
            </p:nvSpPr>
            <p:spPr>
              <a:xfrm>
                <a:off x="142920" y="1509480"/>
                <a:ext cx="882036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9" name="Text Box 25"/>
              <p:cNvSpPr/>
              <p:nvPr/>
            </p:nvSpPr>
            <p:spPr>
              <a:xfrm>
                <a:off x="142920" y="1557360"/>
                <a:ext cx="882036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0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 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6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체계적으로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조적으로 모방하는 것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 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980640"/>
              <a:ext cx="867888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검토기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PE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과 활동별 시간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Gantt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chart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월별 활동카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Shed-U Graph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총괄진행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Flow chart)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 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1H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내 관련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의 종사자와 긴밀한 협조관계를 유지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0-471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 단계에서도 조직 내외부의 상황변화에 따른 장애요인 파악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슈퍼비전을 제공해야 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평가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49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2-47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안서의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의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한 장의 계획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one paper proposal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한 경우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 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999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축소해 나가는 방식으로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자 선정 기준과 절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집 부진시 대응방안도 상세히 기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를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106200" y="115920"/>
            <a:ext cx="9074160" cy="6851160"/>
            <a:chOff x="106200" y="115920"/>
            <a:chExt cx="9074160" cy="6851160"/>
          </a:xfrm>
        </p:grpSpPr>
        <p:sp>
          <p:nvSpPr>
            <p:cNvPr id="428" name="직사각형 5"/>
            <p:cNvSpPr/>
            <p:nvPr/>
          </p:nvSpPr>
          <p:spPr>
            <a:xfrm>
              <a:off x="106200" y="1159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06200" y="473040"/>
              <a:ext cx="8968680" cy="3348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78920" y="476280"/>
              <a:ext cx="9001440" cy="31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들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체험여행 등의 일회성 프로그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식 및 다과비 등을 지나치게 많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편성하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06200" y="38386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06200" y="4162320"/>
              <a:ext cx="8968680" cy="1643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06200" y="41738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평가항목 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8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282600" y="5816520"/>
              <a:ext cx="7673040" cy="1150560"/>
              <a:chOff x="282600" y="5816520"/>
              <a:chExt cx="7673040" cy="115056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2"/>
              <a:stretch/>
            </p:blipFill>
            <p:spPr>
              <a:xfrm>
                <a:off x="282600" y="5816520"/>
                <a:ext cx="903600" cy="81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1167840" y="5943600"/>
                <a:ext cx="678780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 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 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 유사 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81373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엇이 되어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증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조직에서 활용 가능한 프로그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봉숭아 기르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-&g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꽃물들이기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상요법 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1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2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2:00:34Z</dcterms:modified>
  <cp:revision>36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